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3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0.jpeg" ContentType="image/jpe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8D0-97FB-4F47-B4FF-EC8D4106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409-DCC4-4E1D-862F-BE6363CA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92F15-5A46-4C14-8B0E-AE8876BA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62474-5992-4D88-993F-0F038453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1269F-C155-456E-98DA-08D7AF2B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D8085-ED83-4C9D-9BF1-71E1C8C3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C46E3-423E-4832-804D-21921F2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9B098-39F6-4AA5-A6CD-7DE2D91F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DC7D-480E-4217-9D87-FDE899E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0D563-40E2-4F9A-A2DA-FE970C48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5F40D-CA7B-428B-80BC-C054E37D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025D-6C1A-4E60-B5C6-DBC15A4E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E51-0286-488A-9CE0-4491BA3B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F0CE0-ECC1-4A38-96EB-5D4DEB7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6EDB4-95EC-4E8A-BDE6-E7790A0E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9762F-B3A9-4E3A-B297-C73DF65F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C9045-B101-441F-A7F5-3A63595C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1CF81-2418-4888-8A9E-B787B38D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D7F3A-9632-4738-9A82-CEAC612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6BD59-21FF-4665-BB66-0E67F46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1C998-3CEA-4B64-A8E0-F153EE09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ADB50-81FE-4BE1-BC46-E5170510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6AE8A-2B83-4962-8E0A-99A0199D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7BE-5F2B-43E6-8F2E-EE5D518E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50BEA-B3B4-48D9-AA33-B904E172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D19E0-F5A1-4333-BD59-5A7269BF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1E0D1-5096-4FF7-8A06-538F70B0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9A55-FC4D-41E8-8249-5C9B0472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77D90-CFF4-4319-8865-F098E930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1429D-CE80-42DA-976D-772C5ECA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49C6-E907-4A7E-8A36-219EF53F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A2ECE-0B89-4B76-BCA0-2A0F73A2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F3166-2088-4E8E-A163-D4A47D4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72329-0370-405A-9FB8-C650108A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4129-FE10-4C44-8734-C72C9577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23291-CF50-46A9-8C61-BE33E873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F990-305D-4362-8256-93E3AC39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71A30-2E33-4570-986C-A46E878A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962A8-31BB-4DEF-BF83-08EA3A4E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BFB16-333D-41E7-92DC-DEC34575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FC091-CDC0-41B7-BAD5-E5FB89C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9A248-A0CF-4D3A-A621-B2B041A2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7C880-F297-4FC7-A5FC-971AD01E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45A5F-D0F2-4256-BFDE-CF43DB25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64A50-595A-49FA-BF7D-43114E1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5592-F436-41B3-896E-34AF3373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D2341-B01D-4453-A0CA-2A3E0E7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0D50B-E5B2-4850-8BA2-431415A7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6B554-D3D5-4D4F-99A5-0F48FA0E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B56B5-941C-469E-BB7A-4D5B677E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8E8ED-3793-4937-B9AE-A2FB631A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FD6E0-D359-4289-AB5C-674A1414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6FD39-C842-46C5-82EC-D6F7A8B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2C8B4-1630-45C6-B8B0-80D0412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A7A2B-ED0E-438D-9A9C-48C1ABF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6E24D-A58D-4565-AEF1-6E62944F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7A39-03A9-4DDA-85DA-83503F33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FA173-3748-40D9-98A2-6C53F648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9A01C-3E2E-4204-8499-E3858356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EA925-A9F7-4383-A909-93181B85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A9A0D-B6EF-4368-BA69-CDB50EE3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21C3E-EF04-4DE4-B47B-71FBF0A3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F13CE-5BE7-4CBB-884E-3DC32399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8EE4D-00EC-4E88-B08B-E72C3B33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AF8-3289-4C51-985E-4FC50E87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511B-BF87-4BE2-B84D-3596B8F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AA55-5429-41D0-A572-4E181248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56CD-ADC2-4607-B51A-9078D2C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392-A1FB-4BC7-9D97-81F56A3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8E5E-3CD6-4B72-B6F2-4D652C09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A4BF-0A19-4F55-BFA3-98ED239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858E-1377-4C83-ADE5-4744AEC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35A9-EC1B-4112-BDFA-AD19022D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E853-1BBD-49CA-99C2-626C21EF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85CD-EAB3-4122-8D3B-E9B7EB43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CE26-1F3B-40BF-B3DE-8B43BB3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313BC-1894-43AD-B833-F7B4CBF9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7B9E5-F561-4576-B4CD-0987283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F55B-7B31-4F06-A716-A08F573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39A-0A1E-4552-9FCD-E6B82D2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E82A-F283-469F-8BF4-028CFB67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1597-D035-444B-A516-3522FA3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9E0F-0566-458F-8E40-0DEF51D0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DBF50-D41B-4220-B107-424D0117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D7FF-14A4-442C-AFB8-93474989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DA73-2986-4A64-B1BC-FE45F104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DDA4-3DF6-4191-BBC1-D3A1D208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C1CC-1C6E-4231-A76D-57EAD0D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D94C-EE0B-48A5-A088-35F77289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16F1E-6939-41A9-888E-972BABB4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3CD-3AB5-4AF3-B30E-0338BAC4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26D9-591D-44B9-BF06-F3E8E8DC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CD4D-646D-4414-B623-90D0E83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CC65-0E47-44FB-A4BD-034BB20D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5D8F-874B-4838-BA3D-1464BEB5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233E-99F5-40BB-B8C2-E2F173FE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26D17-8180-48EE-811E-812AFCC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1ABE-7820-4291-9177-6EB0D66B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4B03-9AD9-492E-9249-5D8FDA74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EC50-8CF5-404F-A7F3-3DD61624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477F-6989-455E-A8E1-8C67789C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17FB-BD1F-418A-9728-EDEB1DF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48E5-5935-48BF-A399-20F98BC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FC1BA-A8B2-4CBA-9A90-2CA20CA7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8BF72-A4EE-498D-B6DD-E6C4E839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5DB4-17CF-4F09-AF35-06DA782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5568-18F9-4E12-83D0-E55BB794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562F-C6D2-494D-A3A9-073686FE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8BCB7-D9A4-494F-B93D-A058212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078C4-4230-4F01-886B-B283399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F3B5-7FC7-440C-B995-6982DF3D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9E2F9-9E72-4386-BE3A-96EF0C05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548-FA57-4115-92F6-191C5308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84C13-B096-4062-B844-AA3409FE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7713D-3B12-4E2D-A95F-3CC1807A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C5AF-B351-43E9-9832-F958C029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D08B3-BCD7-494A-8DEB-7E812822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7FBAB-561F-4EE7-9127-EFCEB89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1E36B-EE20-4DA1-8592-27E1EB87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852D-1F0A-43FC-BA71-FA104E00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9F5E7-E784-4E56-A946-AF311B5A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CA8E-A6AB-4C0B-8D1D-8F5F9F7E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7190A-DFA6-41E4-B181-877EA766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88A-12FD-46DE-B69E-56B78800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90379-F8BF-4F44-AF9E-6482F20D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CAFA5-D93E-4117-9209-6C3F7560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9F6AB-C100-4FE6-B10A-26642BC3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55AE8-704B-488E-B974-7FD0F355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9A98-927D-4675-A55F-3C57CFE9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3BCB7-0A3D-4752-9CCD-EAF8430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79128-C94E-42A5-99D8-5CBE9467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DE3C-E68B-4ABB-A11F-44387AB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9316-9D6D-4644-AA26-BDF8D31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680EF-B64D-4C73-8F35-B5CBD13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52C-BCBF-41DA-AFF6-3E610E27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09D3B-1A61-4667-A92F-8E7F646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4A32D-0890-43E3-813F-B390382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A820C-1EC7-413A-8976-7928A6D8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E04FE-A868-4A63-B720-31A49B86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FC170-2A09-4A75-AA3A-2CE628E4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B26C1-3E8E-407E-A583-470B39A3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67AC-D063-45F7-9F0C-388978C7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497F3-FAB6-45FD-A5D2-9D89B61A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90A7-9C43-4A66-83B3-65502C0E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FF3CD-C36E-44AF-A126-F8EF8B8A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6FB-98D4-4006-8EF3-F7CBCF6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9DB7-B3DD-4143-80E0-A4C6F759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66A72-6333-4C34-B0D1-B7528894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87E64-CB0B-4A4F-8D23-9F52FF3D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A52C-D436-4E15-B766-CB44854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6DE4B-6FBB-4A4C-B075-C877017F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2B05-B2C4-42CA-9193-7859437A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36964-1E6E-4B7B-A1A6-40522C2D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3E888-BF84-446A-A253-37F30D4C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5C23E-9272-4FCD-8F73-1C8025F5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60940-BB09-4203-9CD5-DA84FA1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29D8-1C6F-47AE-90E3-7ABB245495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7EA3-55F7-497A-B405-DBFAD3A88D6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E836-E9C3-42AB-8737-4BEB4F062E3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C9F4-ED0A-4649-B0FB-09D965DB178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FE57-92C6-4340-ABCF-67098421278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3CFB-863A-40D6-97A8-5CF64AE90E2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0585-65B2-48A1-9C10-1F9BE420E7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7DE-900F-4C8E-A2DA-EBDB29AE6EE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E0BC-14D7-4B80-B24A-B39A47019E5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0D25-8D8B-46D9-9F58-6F875B6F3BA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2BAF-E4BB-4083-9388-A357158B30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07FD-820F-4E1A-8DBC-E33189886A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DC1F-2A80-449E-8595-6CF1FCBFE2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image" Target="../media/image2.pn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gif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image" Target="../media/image3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Tlak zraka i tekuć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179280" y="90756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ežina stupca (G=m g) izno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=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l-G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l-GR" sz="3000" spc="-1" strike="noStrike">
                <a:solidFill>
                  <a:srgbClr val="000000"/>
                </a:solidFill>
                <a:latin typeface="Calibri"/>
              </a:rPr>
              <a:t>ρ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g 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lak je jednak količniku težine stupca tekućine i ploštine površine na koju djeluje, p=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G/A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izraz za hidrostatički tlak glai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i="1" lang="el-GR" sz="3000" spc="-1" strike="noStrike">
                <a:solidFill>
                  <a:srgbClr val="000000"/>
                </a:solidFill>
                <a:latin typeface="Calibri"/>
              </a:rPr>
              <a:t>ρ </a:t>
            </a:r>
            <a:r>
              <a:rPr b="1" i="1" lang="hr-HR" sz="3000" spc="-1" strike="noStrike">
                <a:solidFill>
                  <a:srgbClr val="000000"/>
                </a:solidFill>
                <a:latin typeface="Calibri"/>
              </a:rPr>
              <a:t>g h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dje je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hidrostatički tlak tekućine gustoće </a:t>
            </a:r>
            <a:r>
              <a:rPr b="0" i="1" lang="el-GR" sz="30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visina tekućine iznad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razine mjerenja, a 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10 N/kg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79280" y="347760"/>
            <a:ext cx="885672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što je E. Torricelli za mjerenje atmosferskog tlaka upotrijebio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živu, a ne vodu. (hint knjiga64. st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2. Izračunajte koliku bi staklenu cijev trebao Torricelli da je umjes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žive upotrijebio vo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3. Kako biste bez prelijevanja, samo s pomoću staklene cjevčic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vodu iz jedne čaše premjestili u drugu? Raspravite to 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učiteljem/učiteljic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4. Površina čovječjeg tijela jest oko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1.5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pa zrak na tu površinu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jeluje silom od oko 150kN. Zašto tako velika sila ne „zdrobi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čovjek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5. Kolika je masa zraka koji pritišće vrh vašega prsta površine  1 c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3" name="Slika 1" descr=""/>
          <p:cNvPicPr/>
          <p:nvPr/>
        </p:nvPicPr>
        <p:blipFill>
          <a:blip r:embed="rId2"/>
          <a:stretch/>
        </p:blipFill>
        <p:spPr>
          <a:xfrm>
            <a:off x="0" y="50472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52080" y="907920"/>
            <a:ext cx="44355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ak zr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aša i ka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 kada okrenemo čašu i pustimo kar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to objašnjav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" descr="SnapShot(57).jpg"/>
          <p:cNvPicPr/>
          <p:nvPr/>
        </p:nvPicPr>
        <p:blipFill>
          <a:blip r:embed="rId8"/>
          <a:srcRect l="29528" t="34996" r="19685" b="0"/>
          <a:stretch/>
        </p:blipFill>
        <p:spPr>
          <a:xfrm>
            <a:off x="5076720" y="2266920"/>
            <a:ext cx="3714840" cy="2674800"/>
          </a:xfrm>
          <a:prstGeom prst="rect">
            <a:avLst/>
          </a:prstGeom>
          <a:ln w="0">
            <a:noFill/>
          </a:ln>
        </p:spPr>
      </p:pic>
      <p:pic>
        <p:nvPicPr>
          <p:cNvPr id="549" name="Slika 3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Content Placeholder 3" descr="SnapShot(60).jpg"/>
          <p:cNvPicPr/>
          <p:nvPr/>
        </p:nvPicPr>
        <p:blipFill>
          <a:blip r:embed="rId1"/>
          <a:srcRect l="1969" t="0" r="1969" b="0"/>
          <a:stretch/>
        </p:blipFill>
        <p:spPr>
          <a:xfrm>
            <a:off x="708120" y="1600200"/>
            <a:ext cx="7727760" cy="4525920"/>
          </a:xfrm>
          <a:prstGeom prst="rect">
            <a:avLst/>
          </a:prstGeom>
          <a:ln w="0">
            <a:noFill/>
          </a:ln>
        </p:spPr>
      </p:pic>
      <p:pic>
        <p:nvPicPr>
          <p:cNvPr id="551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9528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karton zrak djeluje silom i pridržava 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ako djelovanje sile na plohu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lak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Ovaj tlak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lak zrak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tmosferski tlak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tmosferski tlak je tlak zraka u atmosfer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ormalan tlak zraka iznos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01300 P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hr-HR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1013 hPa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ak zraka utječe na vrije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ko je tlak zraka viši od 1013 hPa, tada se nalazite u području povišenog tlaka zraka, pa će biti lijepo vrij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Ako je tlak zraka niži od 1013 hPa, tada ste u području niskog tlaka i očekuje vas oblačno, vlažno i kišovito vrij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, kako nastaje vjetar? Ima li tlak zraka veze se nastankom vjetra i smjerom njegovog puha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ak zraka mjeri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barometr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3" descr="barometar.jpg"/>
          <p:cNvPicPr/>
          <p:nvPr/>
        </p:nvPicPr>
        <p:blipFill>
          <a:blip r:embed="rId2"/>
          <a:stretch/>
        </p:blipFill>
        <p:spPr>
          <a:xfrm>
            <a:off x="3780000" y="1341360"/>
            <a:ext cx="4444920" cy="4260960"/>
          </a:xfrm>
          <a:prstGeom prst="rect">
            <a:avLst/>
          </a:prstGeom>
          <a:ln w="0">
            <a:noFill/>
          </a:ln>
        </p:spPr>
      </p:pic>
      <p:pic>
        <p:nvPicPr>
          <p:cNvPr id="55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5920" y="1165320"/>
            <a:ext cx="4186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ak tekuć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boca s rupic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 kada, s boce koju smo probušili sa svih strana, odvijemo če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4" descr="SnapShot(392).jpg"/>
          <p:cNvPicPr/>
          <p:nvPr/>
        </p:nvPicPr>
        <p:blipFill>
          <a:blip r:embed="rId5"/>
          <a:srcRect l="35433" t="10499" r="24803" b="3500"/>
          <a:stretch/>
        </p:blipFill>
        <p:spPr>
          <a:xfrm>
            <a:off x="4716360" y="1515960"/>
            <a:ext cx="3706920" cy="4521240"/>
          </a:xfrm>
          <a:prstGeom prst="rect">
            <a:avLst/>
          </a:prstGeom>
          <a:ln w="0">
            <a:noFill/>
          </a:ln>
        </p:spPr>
      </p:pic>
      <p:pic>
        <p:nvPicPr>
          <p:cNvPr id="561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179280" y="1052280"/>
            <a:ext cx="4321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voda izlazi na sve strane kroz rupice? Što je tlači odozgo? Zra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ako ponovo vratimo čep na boc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 tlači sve strane predmeta: odozgo, bočno i odoz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3" descr="SnapShot(572).jpg"/>
          <p:cNvPicPr/>
          <p:nvPr/>
        </p:nvPicPr>
        <p:blipFill>
          <a:blip r:embed="rId5"/>
          <a:srcRect l="35236" t="13998" r="24213" b="0"/>
          <a:stretch/>
        </p:blipFill>
        <p:spPr>
          <a:xfrm>
            <a:off x="4643280" y="1557360"/>
            <a:ext cx="3708720" cy="4422600"/>
          </a:xfrm>
          <a:prstGeom prst="rect">
            <a:avLst/>
          </a:prstGeom>
          <a:ln w="0">
            <a:noFill/>
          </a:ln>
        </p:spPr>
      </p:pic>
      <p:pic>
        <p:nvPicPr>
          <p:cNvPr id="564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50920" y="116532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odrediti hidrostatički tla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dubini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zamislite plohu površin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usporednu s površinom tekućine. Na nju, svojom težinom, pritišće stupac tekućine visin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Slika 1" descr=""/>
          <p:cNvPicPr/>
          <p:nvPr/>
        </p:nvPicPr>
        <p:blipFill>
          <a:blip r:embed="rId3"/>
          <a:stretch/>
        </p:blipFill>
        <p:spPr>
          <a:xfrm>
            <a:off x="6429240" y="1638360"/>
            <a:ext cx="2600640" cy="2139840"/>
          </a:xfrm>
          <a:prstGeom prst="rect">
            <a:avLst/>
          </a:prstGeom>
          <a:ln w="0">
            <a:noFill/>
          </a:ln>
        </p:spPr>
      </p:pic>
      <p:pic>
        <p:nvPicPr>
          <p:cNvPr id="56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8" name="Slika 2" descr=""/>
          <p:cNvPicPr/>
          <p:nvPr/>
        </p:nvPicPr>
        <p:blipFill>
          <a:blip r:embed="rId5">
            <a:lum contrast="26000"/>
          </a:blip>
          <a:stretch/>
        </p:blipFill>
        <p:spPr>
          <a:xfrm>
            <a:off x="114480" y="3860640"/>
            <a:ext cx="891540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5:08:43Z</dcterms:created>
  <dc:creator>Mladen Vidović</dc:creator>
  <dc:description/>
  <dc:language>en-US</dc:language>
  <cp:lastModifiedBy>MArina Dumančić</cp:lastModifiedBy>
  <dcterms:modified xsi:type="dcterms:W3CDTF">2019-09-14T14:12:02Z</dcterms:modified>
  <cp:revision>45</cp:revision>
  <dc:subject/>
  <dc:title>Tlak zraka</dc:title>
</cp:coreProperties>
</file>